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730-A709-46AE-A213-D6660F05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15B-99EC-40A6-8995-98803B36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E7A67-9DFB-4160-BADF-42879E12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85A12-1D9F-4805-83F9-1E8DF82C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10D1B-9413-4804-B799-E6C89E03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3C262-F057-49C3-969B-8F2A1D67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B104D-FFB0-4532-AC2F-CB760CD4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5A4FD-8114-4402-B0BA-E80F43F5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B2298-C277-4D05-B38E-E2A4E296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43458-849F-40FD-B4CA-3052D766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0EB7E-4BFE-47F7-A551-99C031E4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7B889-4CA3-401C-858A-128F51FE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56A-5C81-4C13-809D-9EA12192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CFEB9-D4A4-432C-8EAB-EFA161F5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9DD06-CE0D-4456-9489-EC80A672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F637C-A4DC-4F7F-A9C0-F444E75F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D82F5-79A4-43D8-8BB4-23D0FB02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D9B1C-6610-4B4D-A4DD-F5A323DD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151F7-3B08-49D8-B733-AD9054EA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1CCC1-E5DA-4DCC-AD5E-2EEC248F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04EC8-B536-442F-A482-E0BB3892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67616-DE16-449C-B3E8-6D3BBB8C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BA472-8C32-4935-9F5B-7B513044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EAC-4552-40E8-A8DA-042A6302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E52EA-14AB-48F4-9331-AE5C61FF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1A24-FF3D-4C1D-AEF5-7B31123B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E27B-28D2-4B35-A065-77C6AE84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3835-6E9D-4C0A-B4CE-67B14DE1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1E81-2401-47B5-AB82-E2027FD7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8AC2-4688-4E73-840B-DE509B63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9765-A898-4A54-99B7-EF53A091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5C7C-E1EC-4D0C-8010-16574EB6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F74-929B-4F61-B4E8-C77A4E05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F95D-0DF3-44D0-8415-BBE8B313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0A47-94A6-4D58-9421-4B6BDB64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6208-DB6A-49A3-A1CE-D81E1259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8209-27C7-4065-9A17-76776FE3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F3A8-DBD4-4DCC-8F55-604CCE96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5E260-54DB-4239-99EF-83CA4FF8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B9CC9-65AE-487E-9395-FDF5C6A9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C739-D272-4C0B-8FC8-B11DEED7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F029F-DAD4-4EBF-BD32-D1E2AEC9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E2CFF-5867-43CE-8550-2F54FE42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D85-3881-4012-8130-7805CD38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0494D-5963-4590-BAD3-43E8AC3A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5C3B4-1BBC-44CB-947E-EF2A9522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8032C-BA0B-4E37-A06B-46F40DF0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B8F77-2B85-430F-94C1-75F87BA8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9BF5-4457-44C6-9441-F8317BC6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D6829-3DB0-4BE7-A63C-6523CAA8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FE3EA-A436-45DC-8E70-0CC48BDB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354E5-AB5E-4ACD-A5B5-629A30C3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68FDA-AB62-4CE5-BC51-70BF36AA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7F211-2128-40E3-9C90-044A75D7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182-A517-4ED0-940A-BF39899B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92D33-C9CB-416C-8F6E-C8DF6726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1F77A-4F9C-4268-BD3F-7B613117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63BDF-C8AC-42CE-A88A-7DA02559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1E7A8-D585-4CC9-AC21-68BE0228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1F7F6-9CE8-46FE-9BD5-CB4097E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37D20-46A2-4FFB-B4C0-2B26EF66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6E825-AADA-411C-95F7-731DFBA6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6D3BF-006C-49CB-B9C2-BE522C0D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51B63-236F-48A2-8227-72215962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6C1A5-4ED8-4B61-86A8-C207D748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B4D-C6A0-41DC-8E89-04C0D408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596CA-C164-49BA-AD64-EA332276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1CF51-FEE2-4BE2-B278-18690FCE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ED579-93E4-48D9-A0A8-E12A93BA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0385A-2690-4DC7-87B2-1729F1B0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034B4-EF8E-4C21-BA75-95FBBE43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66448-E7D9-40C2-9C00-431D91E9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D80E5-81DD-4478-8077-D3DDEF38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43204-5C8B-4C3C-8FE9-0995B575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3FE53-3DF6-47BF-AB65-78F1EDE8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2C121-0DE4-410B-A3D7-E492CEEB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7FC-8259-478A-B35D-7C952F41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3915B-7F04-4762-AA80-0212220F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FC5896-9E9F-47B9-995D-74895887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F28497-7E90-4F3F-9E2F-F1364918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2D9A3A-C487-4852-9084-09AAEADC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4570A-80CA-4AD3-92D3-B97330F7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FD29A7-A452-4881-A164-43045C42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D4A79-FF38-419D-A1B1-5D5618D6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84E53D-D85E-4154-8311-4DBDA09C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67D967-C0B7-4E54-B4D9-3752A578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1EB5C-6327-41C1-900A-87A24C46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A42-3F5F-439A-AFA7-168CD8FA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07071F-FE43-4AF3-B673-1BA48069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2947A-C110-49D4-8B71-64016FCA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8FD82A-CFE9-47E8-B9E1-A8D1661A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71794-29E5-4598-B4E4-1D10D499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B6C86-A7CC-4C90-9134-34EDBF6C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0F1A5-D3B7-4653-BBA1-1AD96E2E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48314-44C2-4369-AFC6-F7DCC149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13580-914A-4DD2-B067-CAEFF875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00E7E-780C-4640-8C2D-C4400D6B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CC545-F12E-4E56-BFC3-FDDC5105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D31-D818-46DA-B50F-D906116D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FC819-3C82-41DD-A505-C92FBD56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7FA23-C3C3-45E6-86D2-92452595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A877A-BD78-4579-8339-ED7A8D2C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5D7C9-BD67-4FF7-BB79-4786CBF4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D1FC9-11C4-4639-8F5D-E51B2F0E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B8638-7EF9-4964-B247-D9B0D94E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DBADD-EF32-49EF-ABCE-60E29479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DCE92-B986-4A77-85B3-F705909A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6C575-EC79-4844-B373-63D7E10D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1836C-B57F-4B0D-A2A5-0613CD0E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5CB-5FEF-42D6-97F7-A5031F9C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A54C0-2496-480C-897C-ED152416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479E5-5EAA-49C0-B9DF-F2B22A39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9A1BB-01A8-4031-B5DF-0F01AF7A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60049-5FBD-400B-AFE0-0EA0608B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B2CF1-D044-49D2-BDEA-4B3302D5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5D05C-72C1-44D1-8AEE-52DC66BC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99DAD-D310-4E4D-A590-0061BBB8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D7E36-1C86-4142-8747-F24A8871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37B5C-D088-4C3A-9EAD-39BD380D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4B1B9-D8DF-4061-BE7B-22C8F984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2603-D3AF-4E89-A5E6-596582052F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6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7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9B2E-7512-49EA-B531-A8E31171D6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9C1A-984C-4A9A-A083-3660FD15F5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1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1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1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29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E867-F8B9-4A55-8C71-CC2D0E43838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8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9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916D-2919-4ED8-A0A2-3E4D1A66414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6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484D-3811-4F6C-BE80-D337F19E5B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2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2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3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D3B4-6A2D-4406-AA14-7C6E96D1F2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83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8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61F3-081E-4448-AB66-CC8E201CB9D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37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38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4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F416-5924-4824-902B-7E749D10FA9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9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9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2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1EA8-409E-469C-B13C-BE39A3F6C46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Personal Learning Prof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11430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Jocelyn Dav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learning Sty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learning style is visual learn that means that I by reading ,watching ,viewing inform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 Learning Techniqu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earning technique is concrete sequent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means I am strongly left-brain dominate and that I like to have things in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Hemispheres of my brain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found out that the left hemisphere of my brain I am a sequential thinker and methodic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Intelligence Typ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intelligence type is creative intellige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t means that I like to create all forms of art, able to express ideas without wor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’s important to learn how your brain works because then you know the sides that you are and that you need to exercise it to learn mo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erybody has their own way of thinking outside the box or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I Can Use My Bra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an use what I have learned about the way my brain works in school. I can do this when I do art projects and to do my work properly. To show off my smartness when answering a ques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50:43Z</dcterms:created>
  <dc:creator>student</dc:creator>
  <dc:description/>
  <dc:language>en-US</dc:language>
  <cp:lastModifiedBy>student</cp:lastModifiedBy>
  <dcterms:modified xsi:type="dcterms:W3CDTF">2010-11-23T16:03:48Z</dcterms:modified>
  <cp:revision>6</cp:revision>
  <dc:subject/>
  <dc:title>My Personal Learning Profile</dc:title>
</cp:coreProperties>
</file>